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F44-255F-48F4-9FB3-36264703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D46-C507-4915-AF33-F575D445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D25-A914-46D9-9D64-54BB4495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3F2-BC55-4944-BAB5-A977A96B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1FB-4EAE-49A4-BD8F-62274E51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A04-349C-4421-B6E4-23315B3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378A-0EE3-4F73-9DB8-DECB46D5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6D36-1EA1-4C74-9EDD-4AD6D759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4BA-F168-47BA-B68B-4B1B9C5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F147-F753-4FB3-AD03-C9E30BE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225D-D159-4D34-9DDF-409F362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337-C95A-4438-9166-231ED0C0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B55D-FBA1-44BD-BABB-024727A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E6BD-A155-4A47-BDC2-DCA2CBC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2F2-7BC0-4396-BFC5-F3E501D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23E-0BF3-4F33-8FFD-37310ED4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E794-02E1-4082-BACE-B7E12BCF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638-BE8F-4843-BE0C-2F7D84F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061-10FB-4BAC-9AC8-AF310B48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2AE-01E2-414D-85EB-10629964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295-464F-4721-80B9-2984F54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467-D727-4654-8CDD-E93AC20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DFC-3853-4815-AF9B-2053A75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4CB-F7B6-4947-92CC-B3D15E0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F7A-9E3F-4D15-B7B4-909CACA1B28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83B1-4FBD-4302-9240-F7B0622313C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y Ana Selb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hoose a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a graph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formul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rite an equation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ke a l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d a pattern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ork backward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reasoning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Draw a pictu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ke a tabl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ct it 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971800"/>
            <a:ext cx="381024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your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ince I know both weeks total 31 I writ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4 + s = 3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6560" y="25146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8840" y="25146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2767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your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n use the inverse operation to solve for 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4 + s = 31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31 – 14 = 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6560" y="25146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8840" y="25146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2767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81280" y="289548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ep 3 - Solve the probl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3 1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209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– 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1 4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560" y="213372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8840" y="213372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28954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791320"/>
            <a:ext cx="19047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4267080"/>
            <a:ext cx="45720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35053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7120" y="4267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380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4028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581280" y="297180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&amp;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read the probl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98108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41972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8840" y="56386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360" y="56386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ubstitute your new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7440" y="49528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50292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729400"/>
            <a:ext cx="37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17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ubstitute your new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5105520"/>
            <a:ext cx="408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4 +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17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= 3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Did your new number wor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8320" y="5105520"/>
            <a:ext cx="408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4 +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17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= 3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7320" y="5029200"/>
            <a:ext cx="16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81280" y="2895480"/>
            <a:ext cx="317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Jaylynn had $84.75 in her savings account.  She made a deposit.  Her new balance was $107.03.  How much was her deposit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6920" y="4419720"/>
            <a:ext cx="544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$84.75 + d = $107.0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952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$107.03 – $84.75 = 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nthony has twice as many pokemon cards as Joshua.  If Anthony has 124 cards, how many does Joshua have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99120" y="4419720"/>
            <a:ext cx="6028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 x d = 124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d = 124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d = 124/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Vicki baked 90 cookies .  If there are 15 cookies in each batch.  How many batches did she bake?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419720"/>
            <a:ext cx="60260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15 x b = 90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5b = 90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b = 90/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avneet has 3 times as many CD’s as Arlene.  If Navneet has 36 CD’s, how many does Arlene have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419720"/>
            <a:ext cx="602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3 x c = 36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c  = 36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c = 36/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 square has a perimeter of 48 inches. What is the length of each side of the squar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038480"/>
            <a:ext cx="5791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4 x s = 48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s  = 48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029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s = 48/4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One year the city ambulance responded to emergencies on 293 days.  How many days were there no emergencies?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3434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93 + d = 36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257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d = 365 - 29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part from Broderbund   ClickArt 125,000 Deluxe Image P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part from Corel Gallery by Corel Cor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 1 – Understand the probl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Read the problem  and identify the ques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Map a solu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Underline important informa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Predict your answer (what it’ll look like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0574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72428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numb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98108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41972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840" y="56386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360" y="56386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How many points did he earn the second week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051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03848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2880" y="51814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360" y="51814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791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sk if your answer is going to be a larger or smaller number compared to what you already kno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240" y="281952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281952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5812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41972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t will b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malle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than the total but may or may not be smaller than the first week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1280" y="2666880"/>
            <a:ext cx="3173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cide h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re going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5:09:23Z</dcterms:created>
  <dc:creator>Monica/Bob Yuskaitis</dc:creator>
  <dc:description/>
  <dc:language>en-US</dc:language>
  <cp:lastModifiedBy> </cp:lastModifiedBy>
  <dcterms:modified xsi:type="dcterms:W3CDTF">2008-08-05T16:04:43Z</dcterms:modified>
  <cp:revision>6</cp:revision>
  <dc:subject/>
  <dc:title>Problem Solving</dc:title>
</cp:coreProperties>
</file>